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116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83DC066-FFB2-44B2-A009-4000B10D0E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87B52875-5944-437B-84C6-393C2BC3F6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D7D9D6BC-C803-41CF-8422-E07E356B43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17180C7-1F8E-4926-8070-7F5F3ED068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C9E3793-855D-4CD1-BA77-8DED3908A5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51CF404-71CA-4C52-A11D-E0D332920D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B16A99A-AE37-4399-995E-4A35A460D69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16E3-1705-4048-9A11-ACC40CC1E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97C6-1133-42FE-854C-24EC8A4C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BE97-5ED6-42AA-A6DA-958F0BE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0078-3361-4E57-9943-C3852E221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180A-A8A9-4C5B-9AA2-C6766FC8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3FD7-870B-42D0-A137-D5B7CE25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B6A6-A635-44DC-B327-016EE90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F77F-06AA-4D10-8BD6-49261A1A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8CE8-50D1-4C34-8A98-3D52F0A5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B7DD-C0A4-4966-8928-4F61B34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3175-774F-4A97-A196-CC13BA9F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5CC1-A4F8-4CE2-87F9-8E5F0C0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975972-FBAC-476B-825B-96A8D3D22EF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                                                                                                                                                          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                                                                            «ГБУЗ Кузнецкая межрайонная больница» поликлиник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93760"/>
          <a:ext cx="8624880" cy="3341880"/>
        </p:xfrm>
        <a:graphic>
          <a:graphicData uri="http://schemas.openxmlformats.org/drawingml/2006/table">
            <a:tbl>
              <a:tblPr/>
              <a:tblGrid>
                <a:gridCol w="39060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4.02 по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2 государственном бюджетном учреждении здравоохранения  «Кузнецкая межрайонная больница» рабочую группу по реализации проекта «Бережливая поликлиника» на территории поликлиники№2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ы  коррекции регистратуры поликлиники и кабинета профилак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для сдачи биологических жидкостей на анализ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на проведение 1 этапа диспансериз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0"/>
            <a:ext cx="8394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460188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ключевых проблем и целей для запуска проекта «Бережливая поликлиника» на собрании коллектива медицинской орган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0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41560"/>
                <a:gridCol w="49716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новых условия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ых посадочных мест для паци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в кабинет прфилактики мебели (стулья, столы, ширм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8238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:                                        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енное квотирование  для сдачи биологических жидкостей на анализ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уководитель проектного офиса           зав.  поликлиникой № 2 Приступ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18T10:20:20Z</cp:lastPrinted>
  <dcterms:modified xsi:type="dcterms:W3CDTF">2019-02-04T13:41:49Z</dcterms:modified>
  <cp:revision>349</cp:revision>
  <dc:subject/>
  <dc:title>Слайд 1</dc:title>
</cp:coreProperties>
</file>